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7AF-01C4-4931-8789-8321C97A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A35-B6F9-449E-B59F-E481581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5C0-B02C-4EB1-953A-9EE60ACA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70B-13AB-45D4-B5F0-98E1E94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8E4-391E-4891-A698-9D590DE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D45-3E41-4ACC-B0F2-6EE363F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05A-6930-4472-B9D2-DEE8EA74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D1B-AA97-4FAE-898D-9223111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E0E-6ECC-4011-B649-614FFA7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175-1172-4671-8565-A68B3B6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11E-65F7-48B8-8D32-D814A84A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8CF-8E3E-4357-9F4D-227FEA3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4BCA-70A8-44D5-98FA-F93C5095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ALASK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the  great north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beautiful winter pictures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28960" y="-32230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N ALASKA IS 626,9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capital is Jun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8229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2743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flag represents the sky, big dipper, and the north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laska state flag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5508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2133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s are very long and cold in Alaska and they don’t have a lot of great clot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573732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2590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aska the sunset turns the sky pink and purple and makes the water look like the colorful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52280" y="-52340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Alaska has a lot of animals like one animal is a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01aaapalin_alaska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838080" y="-2781720"/>
            <a:ext cx="685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ska has a lot of mountains and one of their mountains is 1,684 feet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42:11Z</dcterms:created>
  <dc:creator>Scott</dc:creator>
  <dc:description/>
  <dc:language>en-US</dc:language>
  <cp:lastModifiedBy>Scott</cp:lastModifiedBy>
  <dcterms:modified xsi:type="dcterms:W3CDTF">2010-01-17T21:55:10Z</dcterms:modified>
  <cp:revision>3</cp:revision>
  <dc:subject/>
  <dc:title>ALASKA</dc:title>
</cp:coreProperties>
</file>